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C5BE-2EFC-4FAE-B46A-E2F0D2E79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7690-E310-4E3B-9087-04F09D52C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FFD3-225B-40D9-8D69-C94A6F70C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663C-3958-42BE-80F2-F08C14390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C00B-0620-4005-BFE3-37C320E57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D10E-BFF6-4F59-BB90-1C3366D55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E3A4-EC4B-475F-927B-7B48E0FB0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1CBE-1887-4880-BEC7-AE005D4E9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C593-A0D7-4BB5-9693-B649A99F3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0CF0-0B27-4424-8286-61E64F339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D3AF-9B20-4A7A-BB84-0FBDBB6C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837A-6923-46FE-B042-54E9A159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97866A-967B-4EB3-9E26-AC80A5724F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33480"/>
            <a:ext cx="9779040" cy="75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od and T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o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The climate of  feeling in a literary work. The choice of setting, objects, details, images, and words all contribute towards creating a specific mood. For example, an author may create a mood of mystery around a character or setting but may treat that character or setting in an ironic, serious, or humorous t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 author’s attitude, stated or implied, toward a subject. Some possible attitudes are pessimism, optimism, earnestness, seriousness, bitterness, humorous, and joyful. An author’s tone can be revealed through choice of words and detai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" dur="20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7200"/>
            <a:ext cx="8915400" cy="64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mily Dickin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Book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no frigate like a boo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take us lands away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 any coursers like a p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prancing poetry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traverse may the poorest tak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out oppress of toll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frugal is the chari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bears a human sou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TONE and MOOD of this poe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how they are establish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457200"/>
            <a:ext cx="10080720" cy="57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lett Burg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Purple Cow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Reflections on a Mythic Beast Who's Quite Remarkable, at Least.)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NEVER saw a Purple Cow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never hope to See One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I can Tell you, Anyhow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'd rather See than Be 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TONE and MOOD of this poe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how they are establish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457200"/>
            <a:ext cx="8915400" cy="58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rl Sandbu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g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og com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 little cat feet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sits look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ver harbor and c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 silent haunch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then moves on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TONE and MOOD of this poe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how they are establish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457200"/>
            <a:ext cx="10080720" cy="59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of the following affect MEANING in writing. You must both identify and explo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terary De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thropomorphi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agery/Sensory detai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pet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hyme Sche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01:58:00Z</dcterms:created>
  <dc:creator>Nick Chanese</dc:creator>
  <dc:description/>
  <dc:language>en-US</dc:language>
  <cp:lastModifiedBy/>
  <cp:revision>1</cp:revision>
  <dc:subject/>
  <dc:title/>
</cp:coreProperties>
</file>